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A6F3-8420-43AE-969E-A3489878C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AE9D-F70F-449D-BA0A-9938BD2ED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1663-7C09-4836-B08B-CBEAC22B3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C1F4-0553-4CEE-B0B3-0B3D9166F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29F0-2FB8-4A41-BD06-0B59CAD80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9F4C-821F-4221-8A26-0892FF3B3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B90F-ABE2-4136-8314-BEBCAF948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4516-6402-4CC3-93B9-76B6767E2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7943-9991-49D3-A9C6-A19C2C0D6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F866-D38C-4E50-80C4-A7904E163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3DDD-09C5-418B-8587-13B17F62F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A9CE-6DC7-464A-812A-049BCF848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A0BD5-D786-44FF-9FAF-F46AA53301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57400" y="609480"/>
            <a:ext cx="1828800" cy="571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6094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26668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28195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35812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38098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57200"/>
            <a:ext cx="4038480" cy="6019920"/>
          </a:xfrm>
          <a:custGeom>
            <a:avLst/>
            <a:gdLst>
              <a:gd name="textAreaLeft" fmla="*/ 196920 w 4038480"/>
              <a:gd name="textAreaRight" fmla="*/ 3841560 w 4038480"/>
              <a:gd name="textAreaTop" fmla="*/ 196920 h 6019920"/>
              <a:gd name="textAreaBottom" fmla="*/ 5823000 h 6019920"/>
            </a:gdLst>
            <a:ahLst/>
            <a:rect l="textAreaLeft" t="textAreaTop" r="textAreaRight" b="textAreaBottom"/>
            <a:pathLst>
              <a:path w="21600" h="32197">
                <a:moveTo>
                  <a:pt x="3600" y="0"/>
                </a:moveTo>
                <a:arcTo wR="3600" hR="3600" stAng="16200000" swAng="-5400000"/>
                <a:lnTo>
                  <a:pt x="0" y="28597"/>
                </a:lnTo>
                <a:arcTo wR="3600" hR="3600" stAng="10800000" swAng="-5400000"/>
                <a:lnTo>
                  <a:pt x="18000" y="321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14600" y="9144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14600" y="9907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144792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15238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14600" y="1981080"/>
            <a:ext cx="8380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14600" y="20574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9548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954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9548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3048120"/>
            <a:ext cx="13716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14600" y="30481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38280" y="3276720"/>
            <a:ext cx="106704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14600" y="32767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914400"/>
            <a:ext cx="304920" cy="502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38280" y="6094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3880" y="1828800"/>
            <a:ext cx="304920" cy="32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28800" y="1143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048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3886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35812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66880" y="38862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90920" y="35812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90920" y="38862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4876920"/>
            <a:ext cx="13716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14600" y="48769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438280" y="5105520"/>
            <a:ext cx="106704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14600" y="51055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666880" y="5410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666880" y="5715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90920" y="54100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90920" y="5715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828800" y="1600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82880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288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828800" y="5562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14600" y="25146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25909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28800" y="2666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28800" y="39625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828800" y="5791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loud"/>
          <p:cNvSpPr/>
          <p:nvPr/>
        </p:nvSpPr>
        <p:spPr>
          <a:xfrm>
            <a:off x="4648320" y="2666880"/>
            <a:ext cx="1295280" cy="3812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86200" y="2819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24480" y="533520"/>
            <a:ext cx="2057400" cy="213336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360"/>
              <a:gd name="textAreaBottom" fmla="*/ 2032920 h 2133360"/>
            </a:gdLst>
            <a:ahLst/>
            <a:rect l="textAreaLeft" t="textAreaTop" r="textAreaRight" b="textAreaBottom"/>
            <a:pathLst>
              <a:path w="21600" h="22397">
                <a:moveTo>
                  <a:pt x="3600" y="0"/>
                </a:moveTo>
                <a:arcTo wR="3600" hR="3600" stAng="16200000" swAng="-5400000"/>
                <a:lnTo>
                  <a:pt x="0" y="18797"/>
                </a:lnTo>
                <a:arcTo wR="3600" hR="3600" stAng="10800000" swAng="-5400000"/>
                <a:lnTo>
                  <a:pt x="18000" y="223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15200" y="6094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91440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106668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91520" y="1066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91520" y="1295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553080" y="182880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58000" y="18288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28600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705720" y="2286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0" y="1600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600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2057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31520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31520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1520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24480" y="335268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5200" y="34290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77120" y="464832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553080" y="48006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4648320"/>
            <a:ext cx="761760" cy="53316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391520" y="487692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53080" y="419112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41911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7724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15200" y="3962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05720" y="373392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05720" y="37339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943600" y="2437920"/>
            <a:ext cx="76212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5715000" y="2971800"/>
            <a:ext cx="99072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"/>
          <p:cNvGrpSpPr/>
          <p:nvPr/>
        </p:nvGrpSpPr>
        <p:grpSpPr>
          <a:xfrm>
            <a:off x="2743200" y="2895480"/>
            <a:ext cx="1905120" cy="380880"/>
            <a:chOff x="2743200" y="2895480"/>
            <a:chExt cx="1905120" cy="380880"/>
          </a:xfrm>
        </p:grpSpPr>
        <p:sp>
          <p:nvSpPr>
            <p:cNvPr id="497" name=""/>
            <p:cNvSpPr/>
            <p:nvPr/>
          </p:nvSpPr>
          <p:spPr>
            <a:xfrm>
              <a:off x="2819520" y="297180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dvertis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743200" y="2895480"/>
              <a:ext cx="19051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"/>
          <p:cNvSpPr/>
          <p:nvPr/>
        </p:nvSpPr>
        <p:spPr>
          <a:xfrm>
            <a:off x="5105520" y="1828800"/>
            <a:ext cx="327636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590920" y="1828800"/>
            <a:ext cx="220968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57200" y="1828800"/>
            <a:ext cx="182880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819520" y="19051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0948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943600" y="190512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410080" y="28954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ertis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25780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78168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010280" y="2514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010280" y="25146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7010280" y="35053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7620120" y="2286000"/>
            <a:ext cx="838080" cy="457200"/>
            <a:chOff x="7620120" y="2286000"/>
            <a:chExt cx="838080" cy="457200"/>
          </a:xfrm>
        </p:grpSpPr>
        <p:sp>
          <p:nvSpPr>
            <p:cNvPr id="512" name=""/>
            <p:cNvSpPr/>
            <p:nvPr/>
          </p:nvSpPr>
          <p:spPr>
            <a:xfrm>
              <a:off x="7620120" y="22860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620120" y="22860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7620120" y="32767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620120" y="32767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84872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84872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84872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2743200" y="4495680"/>
            <a:ext cx="1905120" cy="380880"/>
            <a:chOff x="2743200" y="4495680"/>
            <a:chExt cx="1905120" cy="380880"/>
          </a:xfrm>
        </p:grpSpPr>
        <p:sp>
          <p:nvSpPr>
            <p:cNvPr id="520" name=""/>
            <p:cNvSpPr/>
            <p:nvPr/>
          </p:nvSpPr>
          <p:spPr>
            <a:xfrm>
              <a:off x="2819520" y="457200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Search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743200" y="4495680"/>
              <a:ext cx="19051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609480" y="28954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41008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nded 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25780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78168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01028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010280" y="4114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010280" y="5105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7620120" y="3886200"/>
            <a:ext cx="838080" cy="457200"/>
            <a:chOff x="7620120" y="3886200"/>
            <a:chExt cx="838080" cy="457200"/>
          </a:xfrm>
        </p:grpSpPr>
        <p:sp>
          <p:nvSpPr>
            <p:cNvPr id="530" name=""/>
            <p:cNvSpPr/>
            <p:nvPr/>
          </p:nvSpPr>
          <p:spPr>
            <a:xfrm>
              <a:off x="7620120" y="38862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620120" y="38862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7620120" y="48769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620120" y="48769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84872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784872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84872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62120" y="2895480"/>
            <a:ext cx="1218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62120" y="4495680"/>
            <a:ext cx="1218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ertis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09480" y="44956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133720" y="30481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133720" y="48006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648320" y="30481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648320" y="46483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133720" y="320040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438280" y="32004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438280" y="45720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2362320" y="1943280"/>
            <a:ext cx="1714320" cy="1143000"/>
          </a:xfrm>
          <a:prstGeom prst="foldedCorner">
            <a:avLst>
              <a:gd name="adj" fmla="val 125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 Agent Cod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-- Ch scri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Function Cal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362320" y="3429000"/>
            <a:ext cx="1714320" cy="1143000"/>
          </a:xfrm>
          <a:prstGeom prst="can">
            <a:avLst>
              <a:gd name="adj" fmla="val 500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362320" y="3429000"/>
            <a:ext cx="171432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590920" y="411480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.ch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791320" y="1828800"/>
            <a:ext cx="1752480" cy="2895480"/>
          </a:xfrm>
          <a:prstGeom prst="can">
            <a:avLst>
              <a:gd name="adj" fmla="val 19736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791320" y="1828800"/>
            <a:ext cx="175248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867280" y="411480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_chdl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743200" y="350532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h Function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1905120"/>
            <a:ext cx="914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362320" y="14479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Script Space (Mobile Agent Spa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0" y="3809880"/>
            <a:ext cx="1028880" cy="571680"/>
          </a:xfrm>
          <a:prstGeom prst="leftRightArrow">
            <a:avLst>
              <a:gd name="adj1" fmla="val 50000"/>
              <a:gd name="adj2" fmla="val 35828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2247840" y="2743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247840" y="2743200"/>
            <a:ext cx="0" cy="148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24784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7696080" y="30481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7162560" y="30481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286000" y="4648320"/>
            <a:ext cx="19051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Ch Mobile-C Pack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943600" y="1523880"/>
            <a:ext cx="144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Binary Spa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3276720"/>
            <a:ext cx="2362320" cy="167616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943600" y="3809880"/>
            <a:ext cx="1447920" cy="609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791320" y="380988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Interface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943600" y="289548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943600" y="2590920"/>
            <a:ext cx="144792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791320" y="259092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Target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7238880" y="4267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3048120" y="2019240"/>
            <a:ext cx="1714320" cy="1143000"/>
          </a:xfrm>
          <a:prstGeom prst="foldedCorner">
            <a:avLst>
              <a:gd name="adj" fmla="val 125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 Agent Cod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-- Ch scri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Function Cal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715000" y="1828800"/>
            <a:ext cx="1828800" cy="2895480"/>
          </a:xfrm>
          <a:prstGeom prst="can">
            <a:avLst>
              <a:gd name="adj" fmla="val 19736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715000" y="1828800"/>
            <a:ext cx="182880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867280" y="411480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_chdl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172200" y="1905120"/>
            <a:ext cx="914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048120" y="15238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Script Space (Mobile Agent Spa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7696080" y="30481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7162560" y="3048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943600" y="1523880"/>
            <a:ext cx="144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Binary Spa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867280" y="3809880"/>
            <a:ext cx="1524240" cy="609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791320" y="380988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Interface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943600" y="289548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867280" y="2590920"/>
            <a:ext cx="152424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791320" y="259092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Target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7238880" y="4267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267080" y="281952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257800" y="281952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257800" y="42670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Cloud"/>
          <p:cNvSpPr/>
          <p:nvPr/>
        </p:nvSpPr>
        <p:spPr>
          <a:xfrm>
            <a:off x="4038480" y="2895480"/>
            <a:ext cx="1295640" cy="4572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3886200" y="838080"/>
            <a:ext cx="1295280" cy="1217880"/>
          </a:xfrm>
          <a:prstGeom prst="rect">
            <a:avLst/>
          </a:prstGeom>
          <a:ln w="0">
            <a:noFill/>
          </a:ln>
        </p:spPr>
      </p:pic>
      <p:sp>
        <p:nvSpPr>
          <p:cNvPr id="592" name=""/>
          <p:cNvSpPr/>
          <p:nvPr/>
        </p:nvSpPr>
        <p:spPr>
          <a:xfrm rot="5400000">
            <a:off x="4190760" y="2286000"/>
            <a:ext cx="990360" cy="228600"/>
          </a:xfrm>
          <a:prstGeom prst="leftRightArrow">
            <a:avLst>
              <a:gd name="adj1" fmla="val 50000"/>
              <a:gd name="adj2" fmla="val 86244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981080" y="4038480"/>
            <a:ext cx="1752840" cy="2590920"/>
          </a:xfrm>
          <a:custGeom>
            <a:avLst/>
            <a:gdLst>
              <a:gd name="textAreaLeft" fmla="*/ 85320 w 1752840"/>
              <a:gd name="textAreaRight" fmla="*/ 1667520 w 1752840"/>
              <a:gd name="textAreaTop" fmla="*/ 85320 h 2590920"/>
              <a:gd name="textAreaBottom" fmla="*/ 2505600 h 2590920"/>
            </a:gdLst>
            <a:ahLst/>
            <a:rect l="textAreaLeft" t="textAreaTop" r="textAreaRight" b="textAreaBottom"/>
            <a:pathLst>
              <a:path w="21600" h="31925">
                <a:moveTo>
                  <a:pt x="3600" y="0"/>
                </a:moveTo>
                <a:arcTo wR="3600" hR="3600" stAng="16200000" swAng="-5400000"/>
                <a:lnTo>
                  <a:pt x="0" y="28325"/>
                </a:lnTo>
                <a:arcTo wR="3600" hR="3600" stAng="10800000" swAng="-5400000"/>
                <a:lnTo>
                  <a:pt x="18000" y="319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057400" y="41148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 Robot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209680" y="4419720"/>
            <a:ext cx="12956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3623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209680" y="4800600"/>
            <a:ext cx="129564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209680" y="62485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362320" y="4952880"/>
            <a:ext cx="99036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514600" y="594360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743200" y="46483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438280" y="5105520"/>
            <a:ext cx="83844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498760" y="510552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617920" y="5362560"/>
            <a:ext cx="479160" cy="19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617920" y="5621400"/>
            <a:ext cx="479160" cy="19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57440" y="536256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57440" y="562140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495680" y="4800600"/>
            <a:ext cx="7488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64832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80060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2"/>
          <a:stretch/>
        </p:blipFill>
        <p:spPr>
          <a:xfrm>
            <a:off x="914400" y="4648320"/>
            <a:ext cx="1143000" cy="838080"/>
          </a:xfrm>
          <a:prstGeom prst="rect">
            <a:avLst/>
          </a:prstGeom>
          <a:ln w="0">
            <a:noFill/>
          </a:ln>
        </p:spPr>
      </p:pic>
      <p:grpSp>
        <p:nvGrpSpPr>
          <p:cNvPr id="612" name=""/>
          <p:cNvGrpSpPr/>
          <p:nvPr/>
        </p:nvGrpSpPr>
        <p:grpSpPr>
          <a:xfrm>
            <a:off x="5791320" y="4038480"/>
            <a:ext cx="1752480" cy="2590920"/>
            <a:chOff x="5791320" y="4038480"/>
            <a:chExt cx="1752480" cy="2590920"/>
          </a:xfrm>
        </p:grpSpPr>
        <p:sp>
          <p:nvSpPr>
            <p:cNvPr id="613" name=""/>
            <p:cNvSpPr/>
            <p:nvPr/>
          </p:nvSpPr>
          <p:spPr>
            <a:xfrm>
              <a:off x="5791320" y="4038480"/>
              <a:ext cx="1752480" cy="2590920"/>
            </a:xfrm>
            <a:custGeom>
              <a:avLst/>
              <a:gdLst>
                <a:gd name="textAreaLeft" fmla="*/ 85320 w 1752480"/>
                <a:gd name="textAreaRight" fmla="*/ 1667160 w 1752480"/>
                <a:gd name="textAreaTop" fmla="*/ 85320 h 2590920"/>
                <a:gd name="textAreaBottom" fmla="*/ 2505600 h 2590920"/>
              </a:gdLst>
              <a:ahLst/>
              <a:rect l="textAreaLeft" t="textAreaTop" r="textAreaRight" b="textAreaBottom"/>
              <a:pathLst>
                <a:path w="21600" h="31932">
                  <a:moveTo>
                    <a:pt x="3600" y="0"/>
                  </a:moveTo>
                  <a:arcTo wR="3600" hR="3600" stAng="16200000" swAng="-5400000"/>
                  <a:lnTo>
                    <a:pt x="0" y="28332"/>
                  </a:lnTo>
                  <a:arcTo wR="3600" hR="3600" stAng="10800000" swAng="-5400000"/>
                  <a:lnTo>
                    <a:pt x="18000" y="319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867640" y="4114800"/>
              <a:ext cx="160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obile Robot Progr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019920" y="4419720"/>
              <a:ext cx="129528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172200" y="4419720"/>
              <a:ext cx="99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-C  AP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019920" y="4800600"/>
              <a:ext cx="1295280" cy="167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019920" y="6248520"/>
              <a:ext cx="129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-C Agenc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172200" y="4952880"/>
              <a:ext cx="990720" cy="1219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324840" y="5943600"/>
              <a:ext cx="698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E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553440" y="4648320"/>
              <a:ext cx="228600" cy="457200"/>
            </a:xfrm>
            <a:prstGeom prst="upDownArrow">
              <a:avLst>
                <a:gd name="adj1" fmla="val 50000"/>
                <a:gd name="adj2" fmla="val 3981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2" name=""/>
            <p:cNvGrpSpPr/>
            <p:nvPr/>
          </p:nvGrpSpPr>
          <p:grpSpPr>
            <a:xfrm>
              <a:off x="6248520" y="5105520"/>
              <a:ext cx="838080" cy="838080"/>
              <a:chOff x="6248520" y="5105520"/>
              <a:chExt cx="838080" cy="838080"/>
            </a:xfrm>
          </p:grpSpPr>
          <p:sp>
            <p:nvSpPr>
              <p:cNvPr id="623" name=""/>
              <p:cNvSpPr/>
              <p:nvPr/>
            </p:nvSpPr>
            <p:spPr>
              <a:xfrm>
                <a:off x="6248520" y="5105520"/>
                <a:ext cx="838080" cy="838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308280" y="510552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 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427800" y="5362920"/>
                <a:ext cx="478800" cy="19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427800" y="5621040"/>
                <a:ext cx="478800" cy="19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366960" y="536184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o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366960" y="562104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29" name="" descr=""/>
          <p:cNvPicPr/>
          <p:nvPr/>
        </p:nvPicPr>
        <p:blipFill>
          <a:blip r:embed="rId3"/>
          <a:stretch/>
        </p:blipFill>
        <p:spPr>
          <a:xfrm>
            <a:off x="7467480" y="4572000"/>
            <a:ext cx="1143000" cy="831960"/>
          </a:xfrm>
          <a:prstGeom prst="rect">
            <a:avLst/>
          </a:prstGeom>
          <a:ln w="0">
            <a:noFill/>
          </a:ln>
        </p:spPr>
      </p:pic>
      <p:sp>
        <p:nvSpPr>
          <p:cNvPr id="630" name=""/>
          <p:cNvSpPr/>
          <p:nvPr/>
        </p:nvSpPr>
        <p:spPr>
          <a:xfrm>
            <a:off x="3886200" y="5335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itoring Ho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rot="18430800">
            <a:off x="3565080" y="3701880"/>
            <a:ext cx="1067040" cy="228600"/>
          </a:xfrm>
          <a:prstGeom prst="leftRightArrow">
            <a:avLst>
              <a:gd name="adj1" fmla="val 50000"/>
              <a:gd name="adj2" fmla="val 9292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rot="13640400">
            <a:off x="4847760" y="3690720"/>
            <a:ext cx="1067040" cy="228600"/>
          </a:xfrm>
          <a:prstGeom prst="leftRightArrow">
            <a:avLst>
              <a:gd name="adj1" fmla="val 50000"/>
              <a:gd name="adj2" fmla="val 9292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257800" y="152280"/>
            <a:ext cx="1752480" cy="2590920"/>
          </a:xfrm>
          <a:custGeom>
            <a:avLst/>
            <a:gdLst>
              <a:gd name="textAreaLeft" fmla="*/ 85320 w 1752480"/>
              <a:gd name="textAreaRight" fmla="*/ 1667160 w 1752480"/>
              <a:gd name="textAreaTop" fmla="*/ 85320 h 2590920"/>
              <a:gd name="textAreaBottom" fmla="*/ 2505600 h 2590920"/>
            </a:gdLst>
            <a:ahLst/>
            <a:rect l="textAreaLeft" t="textAreaTop" r="textAreaRight" b="textAreaBottom"/>
            <a:pathLst>
              <a:path w="21600" h="31932">
                <a:moveTo>
                  <a:pt x="3600" y="0"/>
                </a:moveTo>
                <a:arcTo wR="3600" hR="3600" stAng="16200000" swAng="-5400000"/>
                <a:lnTo>
                  <a:pt x="0" y="28332"/>
                </a:lnTo>
                <a:arcTo wR="3600" hR="3600" stAng="10800000" swAng="-5400000"/>
                <a:lnTo>
                  <a:pt x="18000" y="319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410080" y="22860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itoring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486400" y="533520"/>
            <a:ext cx="12952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638680" y="5335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486400" y="914400"/>
            <a:ext cx="129528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4864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638680" y="1066680"/>
            <a:ext cx="99072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791320" y="205740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019920" y="7621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5715000" y="1219320"/>
            <a:ext cx="838080" cy="838080"/>
            <a:chOff x="5715000" y="1219320"/>
            <a:chExt cx="838080" cy="838080"/>
          </a:xfrm>
        </p:grpSpPr>
        <p:sp>
          <p:nvSpPr>
            <p:cNvPr id="643" name=""/>
            <p:cNvSpPr/>
            <p:nvPr/>
          </p:nvSpPr>
          <p:spPr>
            <a:xfrm>
              <a:off x="5715000" y="1219320"/>
              <a:ext cx="8380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774760" y="121932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894280" y="1476720"/>
              <a:ext cx="478800" cy="19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894280" y="1734840"/>
              <a:ext cx="478800" cy="19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833440" y="147564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833440" y="173484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"/>
          <p:cNvSpPr/>
          <p:nvPr/>
        </p:nvSpPr>
        <p:spPr>
          <a:xfrm>
            <a:off x="4952880" y="4800600"/>
            <a:ext cx="76320" cy="763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510552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34340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3946680" y="2286000"/>
            <a:ext cx="658800" cy="246240"/>
            <a:chOff x="3946680" y="2286000"/>
            <a:chExt cx="658800" cy="246240"/>
          </a:xfrm>
        </p:grpSpPr>
        <p:sp>
          <p:nvSpPr>
            <p:cNvPr id="653" name=""/>
            <p:cNvSpPr/>
            <p:nvPr/>
          </p:nvSpPr>
          <p:spPr>
            <a:xfrm>
              <a:off x="4114800" y="228600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946680" y="228600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4114800" y="228600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3413160" y="3505320"/>
            <a:ext cx="658800" cy="246240"/>
            <a:chOff x="3413160" y="3505320"/>
            <a:chExt cx="658800" cy="246240"/>
          </a:xfrm>
        </p:grpSpPr>
        <p:sp>
          <p:nvSpPr>
            <p:cNvPr id="657" name=""/>
            <p:cNvSpPr/>
            <p:nvPr/>
          </p:nvSpPr>
          <p:spPr>
            <a:xfrm>
              <a:off x="3581280" y="350532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413160" y="350532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9" name=""/>
          <p:cNvSpPr/>
          <p:nvPr/>
        </p:nvSpPr>
        <p:spPr>
          <a:xfrm>
            <a:off x="3581280" y="3505320"/>
            <a:ext cx="38124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5318280" y="3505320"/>
            <a:ext cx="658800" cy="246240"/>
            <a:chOff x="5318280" y="3505320"/>
            <a:chExt cx="658800" cy="246240"/>
          </a:xfrm>
        </p:grpSpPr>
        <p:sp>
          <p:nvSpPr>
            <p:cNvPr id="661" name=""/>
            <p:cNvSpPr/>
            <p:nvPr/>
          </p:nvSpPr>
          <p:spPr>
            <a:xfrm>
              <a:off x="5486400" y="350532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318280" y="350532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5486400" y="350532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809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0384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670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48640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771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638680" y="56386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1500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553080" y="56386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53080" y="58672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715000" y="5181480"/>
            <a:ext cx="1523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1992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199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9343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47712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867280" y="47242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7242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590920" y="40381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4800600" y="39625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9528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4419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47920" y="563868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2388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362320" y="5638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362320" y="5867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23880" y="518148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82880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828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432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76520" y="47242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76520" y="472428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956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242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952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380880"/>
            <a:ext cx="7543800" cy="3048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553080" y="5335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1295280"/>
            <a:ext cx="67820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24080" y="1295280"/>
            <a:ext cx="274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plication Programming Inte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1676520"/>
            <a:ext cx="7086600" cy="144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47920" y="27432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66680" y="198108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7652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76520" y="198108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362320" y="1981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95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95480" y="19810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505320" y="1905120"/>
            <a:ext cx="17524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114800" y="2743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81280" y="2057400"/>
            <a:ext cx="1600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114800" y="2514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3920" y="228600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419720" y="228600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65760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34340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95880" y="1905120"/>
            <a:ext cx="175284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705720" y="2743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72200" y="2057400"/>
            <a:ext cx="1600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705720" y="25146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324480" y="2286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010280" y="2286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24852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93432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4100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8672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90512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1460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12408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03848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72428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62940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31520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124080" y="533520"/>
            <a:ext cx="76212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00400" y="60948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609480"/>
            <a:ext cx="761760" cy="45720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876920" y="7621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1066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257800" y="1066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419720" y="3124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Cloud"/>
          <p:cNvSpPr/>
          <p:nvPr/>
        </p:nvSpPr>
        <p:spPr>
          <a:xfrm>
            <a:off x="3733920" y="3657600"/>
            <a:ext cx="129528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809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0384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2670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48640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4771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638680" y="56386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71500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553080" y="56386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553080" y="58672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15000" y="5181480"/>
            <a:ext cx="1523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01992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0199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9343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47712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867280" y="47242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867280" y="47242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0381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4800600" y="39625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29528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71600" y="4419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447920" y="563868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52388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62320" y="5638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362320" y="5867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523880" y="518148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2880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28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7432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47242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472428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956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242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952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343400" y="3048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Cloud"/>
          <p:cNvSpPr/>
          <p:nvPr/>
        </p:nvSpPr>
        <p:spPr>
          <a:xfrm>
            <a:off x="3733920" y="3657600"/>
            <a:ext cx="129528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352680" y="106668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86200" y="11430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505320" y="144792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16002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419720" y="160020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419720" y="182880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581280" y="236232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23623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96252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80060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343400" y="2590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733920" y="281952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733920" y="28195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209680" y="37339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 rot="936600">
            <a:off x="3048120" y="3733560"/>
            <a:ext cx="369720" cy="4572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5511960" y="365904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 rot="20093400">
            <a:off x="5334120" y="3657240"/>
            <a:ext cx="31248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8098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84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3124080" y="3581280"/>
            <a:ext cx="990720" cy="1067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 flipV="1">
            <a:off x="4571640" y="3504960"/>
            <a:ext cx="114300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4956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7242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9528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343400" y="23623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Cloud"/>
          <p:cNvSpPr/>
          <p:nvPr/>
        </p:nvSpPr>
        <p:spPr>
          <a:xfrm>
            <a:off x="3657600" y="3200400"/>
            <a:ext cx="137160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505320" y="1523880"/>
            <a:ext cx="1676160" cy="99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09880" y="160020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981080"/>
            <a:ext cx="121896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809880" y="205740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90920" y="36576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257800" y="3581280"/>
            <a:ext cx="96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 rot="20328600">
            <a:off x="5091120" y="3594240"/>
            <a:ext cx="257040" cy="38088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4662360" y="2654280"/>
            <a:ext cx="96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 rot="20328600">
            <a:off x="4495680" y="2666520"/>
            <a:ext cx="257400" cy="3812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 rot="947400">
            <a:off x="3428640" y="3657600"/>
            <a:ext cx="257040" cy="38088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191120"/>
            <a:ext cx="1676160" cy="990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981080" y="426708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905120" y="4648320"/>
            <a:ext cx="121896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981080" y="472428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486400" y="4191120"/>
            <a:ext cx="1676520" cy="990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791320" y="42670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15000" y="4648320"/>
            <a:ext cx="12193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791320" y="47242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066680" y="3124080"/>
            <a:ext cx="541044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21932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1932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352680" y="3429000"/>
            <a:ext cx="8384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352680" y="350532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41972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41972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486400" y="3429000"/>
            <a:ext cx="8380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86400" y="41148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638680" y="3733920"/>
            <a:ext cx="53352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562720" y="38098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666880" y="4114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28600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2438280"/>
            <a:ext cx="54104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2514600"/>
            <a:ext cx="304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52388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59092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65760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72428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8195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5257800" y="1828800"/>
            <a:ext cx="26668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85800" y="1828800"/>
            <a:ext cx="16002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743200" y="1828800"/>
            <a:ext cx="20574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43200" y="19810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" y="19810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257800" y="19810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  /  AEE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" y="990720"/>
            <a:ext cx="7238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10666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37160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47712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65760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286000" y="21337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800600" y="21337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743200" y="228600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2666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743200" y="304812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"/>
          <p:cNvGrpSpPr/>
          <p:nvPr/>
        </p:nvGrpSpPr>
        <p:grpSpPr>
          <a:xfrm>
            <a:off x="2819520" y="2666880"/>
            <a:ext cx="1904760" cy="380880"/>
            <a:chOff x="2819520" y="2666880"/>
            <a:chExt cx="1904760" cy="380880"/>
          </a:xfrm>
        </p:grpSpPr>
        <p:sp>
          <p:nvSpPr>
            <p:cNvPr id="323" name=""/>
            <p:cNvSpPr/>
            <p:nvPr/>
          </p:nvSpPr>
          <p:spPr>
            <a:xfrm>
              <a:off x="2895480" y="27432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nection Listen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819520" y="26668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2819520" y="4191120"/>
            <a:ext cx="1904760" cy="380880"/>
            <a:chOff x="2819520" y="4191120"/>
            <a:chExt cx="1904760" cy="380880"/>
          </a:xfrm>
        </p:grpSpPr>
        <p:sp>
          <p:nvSpPr>
            <p:cNvPr id="326" name=""/>
            <p:cNvSpPr/>
            <p:nvPr/>
          </p:nvSpPr>
          <p:spPr>
            <a:xfrm>
              <a:off x="2895480" y="426744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ssage Receiv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819520" y="419112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2819520" y="5257800"/>
            <a:ext cx="1904760" cy="380880"/>
            <a:chOff x="2819520" y="5257800"/>
            <a:chExt cx="1904760" cy="380880"/>
          </a:xfrm>
        </p:grpSpPr>
        <p:sp>
          <p:nvSpPr>
            <p:cNvPr id="329" name=""/>
            <p:cNvSpPr/>
            <p:nvPr/>
          </p:nvSpPr>
          <p:spPr>
            <a:xfrm>
              <a:off x="2895480" y="533412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ssage Send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819520" y="525780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5410080" y="27432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334120" y="2666880"/>
            <a:ext cx="17524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08660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315200" y="24382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15200" y="2438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620120" y="220968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772400" y="220968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153280" y="26668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15328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15328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315200" y="3276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620120" y="312408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772400" y="312408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486400" y="426708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334120" y="419112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086600" y="4343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962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315200" y="3962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620120" y="373392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772400" y="373392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8153280" y="4191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153280" y="43434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153280" y="44956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315200" y="4800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620120" y="464832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772400" y="464832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0880" y="426708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04920" y="419112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57200" y="533412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04920" y="525780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181480" y="1828800"/>
            <a:ext cx="373392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666880" y="1828800"/>
            <a:ext cx="221004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52280" y="1828800"/>
            <a:ext cx="205740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819520" y="190512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5720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172200" y="190512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724280" y="43434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724280" y="28195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057400" y="43434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057400" y="54100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52280" y="1295280"/>
            <a:ext cx="8763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048120" y="12952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99072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65760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93432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2971800" y="20574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Initializing Threa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895480" y="1981080"/>
            <a:ext cx="16765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334120" y="205740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181480" y="19810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705720" y="2133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934320" y="1600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934320" y="1600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93432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181480" y="3505320"/>
            <a:ext cx="15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181480" y="3429000"/>
            <a:ext cx="1524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70572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934320" y="3200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934320" y="32004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238880" y="29718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391520" y="2971800"/>
            <a:ext cx="99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772400" y="3429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772400" y="3581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772400" y="37339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934320" y="40384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238880" y="38862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391520" y="3886200"/>
            <a:ext cx="99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09480" y="3352680"/>
            <a:ext cx="1600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33520" y="3276720"/>
            <a:ext cx="17524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205740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33520" y="1981080"/>
            <a:ext cx="17524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029200" y="990720"/>
            <a:ext cx="350532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743200" y="990720"/>
            <a:ext cx="198108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80880" y="990720"/>
            <a:ext cx="205740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819520" y="106668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09480" y="10666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410080" y="1066680"/>
            <a:ext cx="266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  /  AEE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971800" y="35053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Managing Threa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895480" y="3429000"/>
            <a:ext cx="16765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181480" y="5029200"/>
            <a:ext cx="1600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Execution Engine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read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181480" y="4952880"/>
            <a:ext cx="15242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705720" y="5181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934320" y="48006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934320" y="4800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934320" y="6095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543800" y="1371600"/>
            <a:ext cx="838080" cy="457200"/>
            <a:chOff x="7543800" y="1371600"/>
            <a:chExt cx="838080" cy="457200"/>
          </a:xfrm>
        </p:grpSpPr>
        <p:sp>
          <p:nvSpPr>
            <p:cNvPr id="416" name=""/>
            <p:cNvSpPr/>
            <p:nvPr/>
          </p:nvSpPr>
          <p:spPr>
            <a:xfrm>
              <a:off x="7543800" y="13716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543800" y="13716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7543800" y="23623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543800" y="23623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772400" y="1905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772400" y="20574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772400" y="22096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238880" y="4419720"/>
            <a:ext cx="11430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315200" y="44197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Thread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7543800" y="4648320"/>
            <a:ext cx="838080" cy="457200"/>
            <a:chOff x="7543800" y="4648320"/>
            <a:chExt cx="838080" cy="457200"/>
          </a:xfrm>
        </p:grpSpPr>
        <p:sp>
          <p:nvSpPr>
            <p:cNvPr id="426" name=""/>
            <p:cNvSpPr/>
            <p:nvPr/>
          </p:nvSpPr>
          <p:spPr>
            <a:xfrm>
              <a:off x="7543800" y="464832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543800" y="464832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7238880" y="5715000"/>
            <a:ext cx="11430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43800" y="5943600"/>
            <a:ext cx="838080" cy="457200"/>
            <a:chOff x="7543800" y="5943600"/>
            <a:chExt cx="838080" cy="457200"/>
          </a:xfrm>
        </p:grpSpPr>
        <p:sp>
          <p:nvSpPr>
            <p:cNvPr id="430" name=""/>
            <p:cNvSpPr/>
            <p:nvPr/>
          </p:nvSpPr>
          <p:spPr>
            <a:xfrm>
              <a:off x="7543800" y="59436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543800" y="59436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7772400" y="5257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772400" y="5410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772400" y="5562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315200" y="57150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Thread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572000" y="2133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572000" y="35812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286000" y="35812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286000" y="2133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572000" y="37339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876920" y="37339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876920" y="518148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80880" y="457200"/>
            <a:ext cx="81536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895480" y="45720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65760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62940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2590920" y="2895480"/>
            <a:ext cx="1904760" cy="380880"/>
            <a:chOff x="2590920" y="2895480"/>
            <a:chExt cx="1904760" cy="380880"/>
          </a:xfrm>
        </p:grpSpPr>
        <p:sp>
          <p:nvSpPr>
            <p:cNvPr id="449" name=""/>
            <p:cNvSpPr/>
            <p:nvPr/>
          </p:nvSpPr>
          <p:spPr>
            <a:xfrm>
              <a:off x="2666880" y="29718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uthenticat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590920" y="28954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4952880" y="1828800"/>
            <a:ext cx="327672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438280" y="1828800"/>
            <a:ext cx="221004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04920" y="1828800"/>
            <a:ext cx="182880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1905120"/>
            <a:ext cx="205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5720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715000" y="190512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09480" y="297180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5720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257800" y="28954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enticat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10552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62940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858000" y="2514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858000" y="2514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858000" y="3505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7467480" y="2286000"/>
            <a:ext cx="838080" cy="457200"/>
            <a:chOff x="7467480" y="2286000"/>
            <a:chExt cx="838080" cy="457200"/>
          </a:xfrm>
        </p:grpSpPr>
        <p:sp>
          <p:nvSpPr>
            <p:cNvPr id="466" name=""/>
            <p:cNvSpPr/>
            <p:nvPr/>
          </p:nvSpPr>
          <p:spPr>
            <a:xfrm>
              <a:off x="7467480" y="22860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467480" y="22860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7467480" y="3276720"/>
            <a:ext cx="83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467480" y="3276720"/>
            <a:ext cx="6098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69608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69608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69608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2590920" y="4495680"/>
            <a:ext cx="1904760" cy="380880"/>
            <a:chOff x="2590920" y="4495680"/>
            <a:chExt cx="1904760" cy="380880"/>
          </a:xfrm>
        </p:grpSpPr>
        <p:sp>
          <p:nvSpPr>
            <p:cNvPr id="474" name=""/>
            <p:cNvSpPr/>
            <p:nvPr/>
          </p:nvSpPr>
          <p:spPr>
            <a:xfrm>
              <a:off x="2666880" y="45720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uthoriz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590920" y="44956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45720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25780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10552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62940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85800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858000" y="4114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858000" y="51055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7467480" y="3886200"/>
            <a:ext cx="838080" cy="457200"/>
            <a:chOff x="7467480" y="3886200"/>
            <a:chExt cx="838080" cy="457200"/>
          </a:xfrm>
        </p:grpSpPr>
        <p:sp>
          <p:nvSpPr>
            <p:cNvPr id="484" name=""/>
            <p:cNvSpPr/>
            <p:nvPr/>
          </p:nvSpPr>
          <p:spPr>
            <a:xfrm>
              <a:off x="7467480" y="38862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467480" y="38862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" name=""/>
          <p:cNvSpPr/>
          <p:nvPr/>
        </p:nvSpPr>
        <p:spPr>
          <a:xfrm>
            <a:off x="7467480" y="4876920"/>
            <a:ext cx="83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467480" y="4876920"/>
            <a:ext cx="6098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69608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6960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769608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0948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enticat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981080" y="30481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981080" y="46483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495680" y="30481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495680" y="46483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5T22:17:07Z</dcterms:created>
  <dc:creator>Yu-Cheng Chou</dc:creator>
  <dc:description/>
  <dc:language>en-US</dc:language>
  <cp:lastModifiedBy>ycchou</cp:lastModifiedBy>
  <dcterms:modified xsi:type="dcterms:W3CDTF">2007-03-27T19:05:06Z</dcterms:modified>
  <cp:revision>62</cp:revision>
  <dc:subject/>
  <dc:title>Slide 1</dc:title>
</cp:coreProperties>
</file>